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1AF-2F16-4234-BEE3-5C935A00EA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35BF-7383-4505-809E-8C485BFA22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FE1-DF73-4165-860D-C5E8F80C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FF6-0A6E-4FD0-82C4-405C368A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C08-70B7-4676-A91F-83A82598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D9B-A5F0-40B1-B79B-D57E9BA2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C986-82B0-45A8-B0A4-44D96A29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7F31-0324-48DC-ADEB-3A54AF2C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074B-FBB6-41BB-A13E-03CDC0B0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D9E6-88CC-490B-948B-2611B87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2767-5D9B-48EC-BE66-D5C051C4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EB83-7537-4E66-9D99-EE602EF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642-BE4D-4F03-8A73-A379BDC7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F9C-59FB-46B0-AA8A-D7F265C5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B0B3-079F-4BA8-B5CA-CC0B1272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2FD2-575C-4D21-932E-DA6AE690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843C-19A2-45AA-82AE-917F5B01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5868-070B-47CD-BF50-07ADFB9C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15B-6A62-449B-BF3E-8EE43519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B8B3-9267-4A44-987E-AFF6E371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B7A55-0765-4469-B6D9-51934FB4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A443C-1EE1-4214-92B4-296CC5EE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4155-8D1C-4ABB-9E75-A17DA908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B6AD-4588-4419-8A58-1A788BB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C26-45AA-4FE4-96C1-DF224ED0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2752-0363-43A2-A207-FEDD9E70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6392-96F5-4218-A7A7-8105996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EFCD-F2E9-46F1-915E-62F3B2AD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40C6-6D02-4841-B913-6B3F4C74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4C8E-5304-49CB-BAE7-660119C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F460-92DB-4929-9EDC-77BE6F5A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CE0E-E5D0-4BB6-B13A-215E5CA5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E1FB-D51D-4AC7-92A2-75DB9522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0EA7-1196-4920-8DE5-62632C07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294A-5946-40DF-AA3F-0808D0D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3F8-8E20-4A34-83FB-6712ED4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888D5-6882-408F-8D89-C273719C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6207-85E1-4952-B521-B8C3A8B8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C179-BFD2-4BA0-8709-EB496BA3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6F0D-7A6E-47A9-8CA3-1F4B3043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C9B93-D3F5-41BE-A1C9-F57989E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04818-DB4E-4579-A6B6-7CC8BEAB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58711-5C6F-4AD1-A743-197F0CAF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7709-0257-4A5C-9427-85F369A3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4EE8-3E2A-409E-8603-942A5D4F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5A0-B4A5-4AE4-A4FA-B9B26A36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03B-33C5-4E65-A284-3E11BCCA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290-398A-44CE-9796-241E6497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51A-AC90-4BE7-A1D0-420FE4CE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DA7-53DF-4837-AC24-C7F22379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983D-E592-4FE3-AF74-A92F0543A0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475C-2F11-4F74-8F22-309AF04DD61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613F-27C1-409D-B142-742289FDAD4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5867-214F-46AB-85EA-F9D5754240E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gpi.ru/" TargetMode="External"/><Relationship Id="rId3" Type="http://schemas.openxmlformats.org/officeDocument/2006/relationships/hyperlink" Target="http://vkontakte.ru/priem_kgpi" TargetMode="External"/><Relationship Id="rId4" Type="http://schemas.openxmlformats.org/officeDocument/2006/relationships/hyperlink" Target="http://vkontakte.ru/priem_kgpi" TargetMode="External"/><Relationship Id="rId5" Type="http://schemas.openxmlformats.org/officeDocument/2006/relationships/hyperlink" Target="http://vkontakte.ru/priem_kgpi" TargetMode="External"/><Relationship Id="rId6" Type="http://schemas.openxmlformats.org/officeDocument/2006/relationships/hyperlink" Target="http://vkontakte.ru/priem_kgpi" TargetMode="External"/><Relationship Id="rId7" Type="http://schemas.openxmlformats.org/officeDocument/2006/relationships/hyperlink" Target="http://vkontakte.ru/priem_kgpi" TargetMode="Externa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244440" y="450720"/>
            <a:ext cx="8899560" cy="1663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SG1L4070"/>
          <p:cNvPicPr/>
          <p:nvPr/>
        </p:nvPicPr>
        <p:blipFill>
          <a:blip r:embed="rId3"/>
          <a:stretch/>
        </p:blipFill>
        <p:spPr>
          <a:xfrm>
            <a:off x="1547640" y="2349360"/>
            <a:ext cx="59058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000" y="2060640"/>
            <a:ext cx="8172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сихология образов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биология*, русский язык, математи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1872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сихолого - Педаг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258560" y="2492280"/>
            <a:ext cx="74898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Логопед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биология*, русский язык, математи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68360" y="12002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Специальное (дефектологическое)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71640" y="2491920"/>
            <a:ext cx="792144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Электроника, радиотехника, связ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математика*, русский язык, физи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68360" y="12002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рофессиональное обучение </a:t>
            </a:r>
            <a:br>
              <a:rPr sz="3200"/>
            </a:b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(по отрасля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01120" y="2276280"/>
            <a:ext cx="86425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правление в социокультурной сфе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обществознание*, русский язык, истори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ультура массовых коммуникац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обществознание*, русский язык, истори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68360" y="12002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Культурология (гуманитарные нау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68360" y="2491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офессиональное обучение (по отрасля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русский язык, математик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24000" y="692280"/>
            <a:ext cx="858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Программы среднего </a:t>
            </a:r>
            <a:br>
              <a:rPr sz="3600"/>
            </a:b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профессионального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134ee"/>
                </a:solidFill>
                <a:latin typeface="Times New Roman"/>
                <a:ea typeface="Times New Roman"/>
              </a:rPr>
              <a:t>Прием документов от поступающих на очную и заочную формы обучения начинается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18 июн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134ee"/>
                </a:solidFill>
                <a:latin typeface="Times New Roman"/>
                <a:ea typeface="Times New Roman"/>
              </a:rPr>
              <a:t>и заканчивается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5 июля 2013 год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4920" y="764640"/>
            <a:ext cx="85438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ем в высшее учебное заведение на первый курс проводится на конкурсной основе по заявлениям лиц: имеющим среднее (полное) общее или среднее профессиональное образование -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результатам единого государственного экзамена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(далее - ЕГЭ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зультаты всех вступительных испытаний, оцениваются по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обалльной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шкале. 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ная комиссия учитывает результаты ЕГЭ  2012 г. и/или 2013 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хема 3" descr=""/>
          <p:cNvPicPr/>
          <p:nvPr/>
        </p:nvPicPr>
        <p:blipFill>
          <a:blip r:embed="rId2"/>
          <a:stretch/>
        </p:blipFill>
        <p:spPr>
          <a:xfrm>
            <a:off x="1676520" y="1262160"/>
            <a:ext cx="7375320" cy="526716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8"/>
          <p:cNvSpPr/>
          <p:nvPr/>
        </p:nvSpPr>
        <p:spPr>
          <a:xfrm>
            <a:off x="144360" y="117360"/>
            <a:ext cx="3564000" cy="1440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еста с полн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озмещением затра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 об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510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Документы, </a:t>
            </a:r>
            <a:br>
              <a:rPr sz="3600"/>
            </a:b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еобходимые для поступления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явл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аспор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кумент о среднем (полном) общем или среднем   профессиональном образован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кументы, дающие право на льготы и преимуще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идетельства о результатах ЕГЭ за 2012 и/или 2013 г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26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Вне конкурса на все формы обучения при положительных оценках на вступительных испытаниях зачисляются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ети-сироты и дети, оставшиеся без попечения родителей, имеющие возраст до 18 лет, а также лица от 18 до 23 лет, которые получили статус детей-сирот или детей, оставшихся без попечения родителей, когда они находились в возрасте до 18 лет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нвалиды первой и второй групп, дети-инвалиды, которым согласно заключению учреждения Государственной службы медико-социальной экспертизы не противопоказано обучение в КГП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раждане в возрасте до двадцати лет, имеющие только одного родителя – инвалида 1 группы, если среднедушевой доход семьи ниже величины прожиточного минимума, установленного в соответствующем субъекте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раждане, проходившие в течение не менее трех лет военную службу по контракту в Вооруженных Силах Российской Федерации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8036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Миссия Коми государственного педагогического института </a:t>
            </a:r>
            <a:br>
              <a:rPr sz="32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184464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ключается в формировании, воспитании и развитии социально и профессионально компетентной личности на основе оптимального сочетания практикоориентированного педагогического образования  и фундаментальных знаний, в подготовке инновационно мыслящих и востребованных на рынке труда педагогических кадров, способных повысить интеллектуальный потенциал Республики Коми и Росс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Зачисление  проводится на основании результатов конкурса после завершения вступительных испытаний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упающий представляет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ригина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кумента государственного образца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 образован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68000" y="333360"/>
            <a:ext cx="828036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июля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вление и размещение на официальном сайте института и на информационном стенде приемной комисси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ка ранжированных по мере убывания количества набранных баллов (с их указанием) с выделением в них списков лиц, рекомендованных приемной комиссией к зачислению по каждому направлению подготовки (специальности) с учетом оставшегося количества бюджетных мест или мест по договорам с оплатой стоимости обучения (при их наличии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август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ершение представления оригинала документ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образца об образовании лицами, имеющими право на поступление без вступительных испытаний, имеющими право на прием вне конкурса, а также лицами, успешно прошедшими вступительные испытания при приеме на бюджетные мес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августа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дание приказа о зачислен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сентября лиц, имеющих право на поступление без вступительных испытаний, имеющих право на прием вне конкурса, а также лиц, успешно прошедших вступительные испытания при приеме, представивших оригинал документа государственного образца об образова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авгу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ая волна зачис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723960"/>
            <a:ext cx="633564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Контакты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7280" y="1483920"/>
            <a:ext cx="8856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лефон ответственного секретаря приемной комиссии </a:t>
            </a:r>
            <a:r>
              <a:rPr b="0" lang="ru-RU" sz="2600" spc="-1" strike="noStrike">
                <a:solidFill>
                  <a:srgbClr val="681e1e"/>
                </a:solidFill>
                <a:latin typeface="Times New Roman"/>
                <a:ea typeface="Times New Roman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 (212) 21-57-8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платная горячая линия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-800-351-15-5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/>
              </a:rPr>
              <a:t>www.kgpi.ru</a:t>
            </a:r>
            <a:r>
              <a:rPr b="1" lang="ru-RU" sz="3200" spc="-1" strike="noStrike">
                <a:solidFill>
                  <a:srgbClr val="4134ee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5"/>
              </a:rPr>
              <a:t>vkontakte.ru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7"/>
              </a:rPr>
              <a:t>priem_kgp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16000" y="4724280"/>
            <a:ext cx="698328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ОСТУП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24000" y="620280"/>
            <a:ext cx="5184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День открытых двере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стои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декабря 2012 г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:00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 адресу: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стическая 25, актовый за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090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е профессиональной деятельности выпускников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00000" y="2349360"/>
            <a:ext cx="7391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подавательска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рганизационно-управленческа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учно-методическа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ектна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Зарубежные вузы-партнер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ниверситет Будо (Норвег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ниверситет Гранады (Испан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ниверситет Версаля (Франц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альмениа центр г. Хельсинки (Финлянд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ниверситет Арк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рмингтонский Университет (СШ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88880" y="836280"/>
            <a:ext cx="86551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Совместные образовательные программы и моду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71280" y="2060280"/>
            <a:ext cx="739116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Экологический туризм и агротуриз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неджмент туриз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полярное регионовед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ультурная инженер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разование поликультурного обще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Зарубежное регионовед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аркетинг народных ремесе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Условия обучения и прожи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 современных учебных корп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5 общежит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вухэтажная столов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портивный клу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ционный центр (W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-Fi, интернет бесплатн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центр досуга и творче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гробиостан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уристический клу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олонтерское движ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ционно - образовательный центр «Русский музей: виртуальный филиал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Центр французской культуры при Посольстве Франции в Росс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4920" y="1844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тика и Математ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математика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тика и Физ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физик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География и Эколог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географи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Безопасность жизнедеятельности и Физическая куль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общая физическая подготовка (тест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763640" y="1187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едаг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184428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1e1e"/>
                </a:solidFill>
                <a:latin typeface="Times New Roman"/>
                <a:ea typeface="Times New Roman"/>
              </a:rPr>
              <a:t>Русский язык и Литера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1e1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литератур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илологическое образование и Образование в области иностранных язы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иностранный язы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ультурологическое образование и Обществоведческое образ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история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ехнология и Эконом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математик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3640" y="1187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едаг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68360" y="191592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нглийский язык и Французский язы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иностранный язы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нглийский язык и Немецкий язы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иностранный язы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чальное образование и Дошкольное образ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математик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чальное образование и Родной язык и литера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коми язык (изложение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763640" y="1187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едаг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7:36Z</dcterms:created>
  <dc:creator>Лариса</dc:creator>
  <dc:description/>
  <dc:language>en-US</dc:language>
  <cp:lastModifiedBy>1111111</cp:lastModifiedBy>
  <dcterms:modified xsi:type="dcterms:W3CDTF">2012-12-07T03:06:52Z</dcterms:modified>
  <cp:revision>32</cp:revision>
  <dc:subject/>
  <dc:title>КОМИ ГОСУДАРСТВЕННЫЙ ПЕДАГОГИЧЕСКИЙ ИНСТИТУ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